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448-04D7-4F1E-965C-FD953F0D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2D2-4D80-462A-9CBF-82B566F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4AF-6138-48AD-9BE8-9815FDB7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242-8ADC-40AB-AD70-A4385A69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7F0-D679-4C12-9484-611350DF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71F-A168-43F3-A068-173430B9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952-85C5-461E-A1B8-0B44ECC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A37-8583-499E-B9D3-F92C676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E85-9EFB-4B99-B4BB-68772365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ACF-E776-49FF-80ED-887D5EC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96E-6CBD-4469-A17F-D2B217EE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BA2-18D9-4482-AAC5-978CAB41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FEDA1-E220-415E-8AE7-AEF46E7B4A9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AD4A7-0207-465C-BC68-C461A3C4A6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42-34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erest Group Explo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41-34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erest Group Explo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 the past several decades, the number of interest groups has skyrocket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ed around occupations, industries, and profes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ver 90% located in Washington, D.C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Explosion? – Technolog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ier lobbying by interest grou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ier for citizens to lobby policymak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creen shot 2012-01-03 at 2.52.39 PM.png"/>
          <p:cNvPicPr/>
          <p:nvPr/>
        </p:nvPicPr>
        <p:blipFill>
          <a:blip r:embed="rId2"/>
          <a:stretch/>
        </p:blipFill>
        <p:spPr>
          <a:xfrm>
            <a:off x="0" y="88740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90520" y="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5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,000 Interest Group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2,000 Interest Group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bb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ion by someone other than a citizen acting on his own behalf, directed to a governmental decision maker with the hope of influencing his decision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basic types of lobbyis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gular, paid employees of a grou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mporary h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bb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bbyist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a source of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politicians plan political strategies for legis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politicians plan political strategies for reelection campaig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a source of ideas and innov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xed evidence as to whether lobbying wor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ioneer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rect group involvement in the election proc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roups can help fund campaigns, provide testimony, and get members to work for candidates; some form PAC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tical Action Committee (PAC)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litical funding vehicles created by 1974 campaign finance refor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s are used by interest groups to donate money to candidat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s help pay the bill for increasing campaign cos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st PAC money goes to incumben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tig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an interest group fails in one arena, the courts may be able to provide a remed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est groups can file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amicus curia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iefs to influence a court’s decis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amicus curiae: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riefs submitted by a “friend of the court” to raise additional points of view and present information not contained in the briefs of the formal par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ass Action lawsuits permit a small number of people to sue on behalf of all other people similar situat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ing Publ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cause public opinion makes its way to policymakers, groups try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ltivate a good public image to build a reservoir of goodwill with the publ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marketing strategies to influence public opinion of the group and its iss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e to motivate and inform the public about an iss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20:51:41Z</dcterms:created>
  <dc:creator>Katie Madison</dc:creator>
  <dc:description/>
  <dc:language>en-US</dc:language>
  <cp:lastModifiedBy>FAdmin</cp:lastModifiedBy>
  <dcterms:modified xsi:type="dcterms:W3CDTF">2012-01-03T21:46:46Z</dcterms:modified>
  <cp:revision>5</cp:revision>
  <dc:subject/>
  <dc:title>How Groups Try to Shape Policy</dc:title>
</cp:coreProperties>
</file>